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7148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8852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48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98852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5392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3636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14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5392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33636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77148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98852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77148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852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77148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8852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8852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148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7148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8852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7148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"/>
          <p:cNvGrpSpPr/>
          <p:nvPr/>
        </p:nvGrpSpPr>
        <p:grpSpPr>
          <a:xfrm>
            <a:off x="1471680" y="1004760"/>
            <a:ext cx="7896240" cy="4503960"/>
            <a:chOff x="1471680" y="1004760"/>
            <a:chExt cx="7896240" cy="4503960"/>
          </a:xfrm>
        </p:grpSpPr>
        <p:sp>
          <p:nvSpPr>
            <p:cNvPr id="37" name=""/>
            <p:cNvSpPr/>
            <p:nvPr/>
          </p:nvSpPr>
          <p:spPr>
            <a:xfrm>
              <a:off x="5419800" y="3960720"/>
              <a:ext cx="0" cy="703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flipV="1">
              <a:off x="2598840" y="3960720"/>
              <a:ext cx="2820960" cy="703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flipV="1">
              <a:off x="5419800" y="2130480"/>
              <a:ext cx="2820960" cy="1830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flipV="1">
              <a:off x="1471680" y="1004760"/>
              <a:ext cx="0" cy="450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471680" y="5508720"/>
              <a:ext cx="7896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471680" y="1004760"/>
              <a:ext cx="78962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9367920" y="1004760"/>
              <a:ext cx="0" cy="4503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598840" y="3960720"/>
              <a:ext cx="2820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240760" y="2130480"/>
              <a:ext cx="0" cy="2533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98840" y="4664160"/>
              <a:ext cx="6627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2598840" y="1144440"/>
              <a:ext cx="0" cy="35197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98840" y="2130480"/>
              <a:ext cx="5641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98840" y="2130480"/>
              <a:ext cx="564192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98840" y="3960720"/>
              <a:ext cx="282096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19800" y="3960720"/>
              <a:ext cx="0" cy="70344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0760" y="2130480"/>
              <a:ext cx="0" cy="25336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1660680" y="1209600"/>
              <a:ext cx="61740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u  (g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 txBox="1"/>
            <p:nvPr/>
          </p:nvSpPr>
          <p:spPr>
            <a:xfrm>
              <a:off x="1943280" y="1913040"/>
              <a:ext cx="29052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2084400" y="2054160"/>
              <a:ext cx="22716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1660680" y="2054160"/>
              <a:ext cx="38592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1660680" y="1913040"/>
              <a:ext cx="29052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1801800" y="1349280"/>
              <a:ext cx="27936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2084400" y="1349280"/>
              <a:ext cx="27936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2225520" y="1209600"/>
              <a:ext cx="24768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5186520" y="4869000"/>
              <a:ext cx="29052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5327640" y="5010120"/>
              <a:ext cx="22716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2367000" y="4869000"/>
              <a:ext cx="29052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2506680" y="5010120"/>
              <a:ext cx="22716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2647800" y="4869000"/>
              <a:ext cx="29520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2789280" y="4869000"/>
              <a:ext cx="29052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7724880" y="4869000"/>
              <a:ext cx="29052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7866000" y="5010120"/>
              <a:ext cx="22716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8007480" y="4869000"/>
              <a:ext cx="29520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8148600" y="4869000"/>
              <a:ext cx="29052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8853480" y="4729320"/>
              <a:ext cx="29052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8288280" y="4869000"/>
              <a:ext cx="25884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*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8994600" y="4869000"/>
              <a:ext cx="22716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1801800" y="1913040"/>
              <a:ext cx="29988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2225520" y="1913040"/>
              <a:ext cx="24768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1943280" y="3743280"/>
              <a:ext cx="29052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2084400" y="3884760"/>
              <a:ext cx="22716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1660680" y="3884760"/>
              <a:ext cx="38592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1660680" y="3743280"/>
              <a:ext cx="29052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1801800" y="3743280"/>
              <a:ext cx="29988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2225520" y="3743280"/>
              <a:ext cx="24768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2930400" y="5010120"/>
              <a:ext cx="22716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2930400" y="5010120"/>
              <a:ext cx="31104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*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8288280" y="5010120"/>
              <a:ext cx="22716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1943280" y="1771560"/>
              <a:ext cx="39528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2408400" y="4729320"/>
              <a:ext cx="39528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7724880" y="4729320"/>
              <a:ext cx="39528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2084400" y="3602160"/>
              <a:ext cx="29052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5327640" y="4729320"/>
              <a:ext cx="29052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6791400" y="3048120"/>
              <a:ext cx="0" cy="16002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598840" y="3051000"/>
              <a:ext cx="423072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1521000" y="2757600"/>
              <a:ext cx="29052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u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1660680" y="2898720"/>
              <a:ext cx="22716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1660680" y="2757600"/>
              <a:ext cx="29052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[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1801800" y="2757600"/>
              <a:ext cx="29052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1943280" y="2898720"/>
              <a:ext cx="22716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1943280" y="2757600"/>
              <a:ext cx="40644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2084400" y="2898720"/>
              <a:ext cx="38592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2225520" y="2757600"/>
              <a:ext cx="29988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2367000" y="2757600"/>
              <a:ext cx="23652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]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 txBox="1"/>
            <p:nvPr/>
          </p:nvSpPr>
          <p:spPr>
            <a:xfrm>
              <a:off x="6373800" y="4815000"/>
              <a:ext cx="29052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g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6514920" y="4815000"/>
              <a:ext cx="40644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6656400" y="4956120"/>
              <a:ext cx="38592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6862680" y="4815000"/>
              <a:ext cx="24768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6514920" y="4956120"/>
              <a:ext cx="227160" cy="32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msade</dc:creator>
  <dc:description/>
  <dc:language>en-US</dc:language>
  <cp:lastModifiedBy>lamsade</cp:lastModifiedBy>
  <cp:revision>0</cp:revision>
  <dc:subject/>
  <dc:title/>
</cp:coreProperties>
</file>